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BAB-AFA4-4FB9-B49B-4723C7AE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EBC-4448-47AD-8EF2-932B512F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469-DEFE-45DF-BD49-99DAEE6E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0A3-CB32-4D3C-9634-09334B44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D677-CEC1-47D9-BCF0-0CD0ED5B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409C-0F39-4E85-AE2B-FBA5AABB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BEF8-227A-440E-80B1-02ABFD9F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4EE1-3F2B-474A-A32C-31D7ACB0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1408-0941-4841-A05B-2F896B93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66FC-A30D-4C5A-B912-04F76CDB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56C3-DC5B-4BC7-8964-BA06E82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8CF-C32B-461D-8E2D-27BE794B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0F96-3FC1-4C30-91D5-CB737CE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00BD-9B76-47C9-958F-EE6FE99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3BA1-6A47-4C78-8066-23DE2285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ECEF-224D-4F41-AF89-2EB39B98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8872-FA3C-4DDB-B423-43C6B597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852-9B6F-458B-844E-71344CE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14E-2C9F-446A-A89C-BEDA520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D86-6AAE-4231-AF16-E4950BF7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BD4-8E50-4336-9389-612271D4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3E0-BD73-425A-A1A0-96DBCD72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BEA-CA17-4398-A38C-E529227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D59-D096-4DD9-8361-1963A40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5180-97F2-4031-82DD-C5B00E01FDB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F528-D242-4112-B27B-EC1A770ABAC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ZAJEMNE POŁOŻENIE PROSTYCH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E I ODCINKI RÓWNOLEGŁ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EŚLENIE PROSTYCH RÓWNOLEG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2682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ysujemy prostą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628640"/>
            <a:ext cx="71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o narysowanej prostej przykładamy ekierkę, a do ekierki linij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Przesuwamy ekier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22360" y="4464000"/>
            <a:ext cx="655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86640" y="4103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32000" y="4464000"/>
            <a:ext cx="1800000" cy="1512720"/>
            <a:chOff x="3132000" y="4464000"/>
            <a:chExt cx="1800000" cy="1512720"/>
          </a:xfrm>
        </p:grpSpPr>
        <p:sp>
          <p:nvSpPr>
            <p:cNvPr id="102" name=""/>
            <p:cNvSpPr/>
            <p:nvPr/>
          </p:nvSpPr>
          <p:spPr>
            <a:xfrm flipV="1">
              <a:off x="3419280" y="4681080"/>
              <a:ext cx="865080" cy="71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132000" y="4464000"/>
              <a:ext cx="1800000" cy="151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16000" y="234936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4. Końcowy rysu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468936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s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ównoległ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 prostej t, co zapisujemy symboliczni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az 24" descr=""/>
          <p:cNvPicPr/>
          <p:nvPr/>
        </p:nvPicPr>
        <p:blipFill>
          <a:blip r:embed="rId1"/>
          <a:srcRect l="8112" t="1585" r="11499" b="1303"/>
          <a:stretch/>
        </p:blipFill>
        <p:spPr>
          <a:xfrm>
            <a:off x="2556000" y="2798640"/>
            <a:ext cx="57600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2000" y="198900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rysujemy prostą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429000"/>
            <a:ext cx="643572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86640" y="30621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589720"/>
            <a:ext cx="5040360" cy="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5634000"/>
            <a:ext cx="5040360" cy="0"/>
          </a:xfrm>
          <a:prstGeom prst="line">
            <a:avLst/>
          </a:prstGeom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27720" y="5273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5273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67000" y="5815080"/>
            <a:ext cx="61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proste pokrywające się są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ówno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18519E-006 L -2.5E-006 -0.15092 E">
                                      <p:cBhvr>
                                        <p:cTn id="4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ZAPAMIĘTAĆ NAZWĘ „RÓWNOLEGŁA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36640" y="1719360"/>
            <a:ext cx="0" cy="4093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171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62280" y="1630440"/>
            <a:ext cx="9360" cy="40035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17640" y="1630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124000"/>
            <a:ext cx="4005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wie proste odpoczywał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się nie dotyk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ówn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legł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na tapcz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słychać było tylko chrap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ówno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leg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DCINKI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22360" y="2259000"/>
            <a:ext cx="274500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9720"/>
            <a:ext cx="27446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16640" y="2259000"/>
            <a:ext cx="288108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72000" y="2979720"/>
            <a:ext cx="292572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6640" y="131436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a odcinki są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ówno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jeżeli leżą na prostych równoległ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1640" y="2259000"/>
            <a:ext cx="1260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51280" y="2979720"/>
            <a:ext cx="720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21640" y="2979720"/>
            <a:ext cx="855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2000" y="2259000"/>
            <a:ext cx="1125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22590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51280" y="225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0621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062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7000" y="22147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6640" y="221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42000" y="30621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42360" y="3062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36543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AB ||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6543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KL ||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22360" y="5589720"/>
            <a:ext cx="67946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5589720"/>
            <a:ext cx="1260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5589720"/>
            <a:ext cx="855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6640" y="459900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cinki leżące na jednej prostej są do siebi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ównoleg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32000" y="558972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37000" y="558972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51280" y="5589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589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7000" y="608472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 || 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33:48Z</dcterms:modified>
  <cp:revision>12</cp:revision>
  <dc:subject/>
  <dc:title>Slajd 1</dc:title>
</cp:coreProperties>
</file>